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CAAA-2AA9-47F8-834C-D18CDD224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CACE-7371-4B6F-A3D1-85C32556A7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2680-5CEE-4315-9A2A-54E600672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0ECB-97A7-4871-83AC-297977334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29E7-9128-4F82-A509-D2E164CD2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2033-7C53-42CC-91FF-C2D0BC1E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B9255-0EAB-4E27-969A-BA784BF3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CA2A6-93AF-47C5-93D5-2878812D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37E4F-7065-4AAA-8F44-1DF8E578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2ACC1-7421-477C-B6B9-3400CC3A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47DD7-5399-4484-89E4-A9136B5F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9632E-F9EC-47D3-A263-2810E34B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0D734-5565-4885-8CB0-460DCD4A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F57BD-5BA7-46A3-9FB1-4D778F16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61BD9-C0F3-4D4F-BD8B-E639B95B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B4CA6B-15C3-4954-9525-F33A0AFE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F1CF-1AA7-4AAD-90FA-A5D24786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8FBD04-3EDA-4E53-A539-BA4EFF51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05970B-17CF-4913-ACC7-F6131A05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571F6E-14D3-4EAB-B604-CF572A8F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37EF2C-58BF-4273-AFD2-02EDA6BF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F25B04-B094-4AE4-8B38-0669D5AA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7363D1-2802-4B3B-8EF2-04253B1F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1D4FC2-0C24-4486-9724-F7D770A2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558E32-4FC8-4B9F-8E39-8DC34FE6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DBC181-480E-41EB-A763-CA69E47B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DEF40C-7986-4B76-9F45-EEC9A6E7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B8E2-7CA7-4480-95CE-342CA819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62DF16-1577-4782-B5D9-CDD4E36B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C50EA-A06E-4C58-A8B8-56DE1184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D9079-510D-4A2C-AB6B-4E31EE66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DC055-0F32-4857-A932-A9F9B7C6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A5CC3-D0C7-4877-B003-02B87B80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08CC0-B0DF-4B20-921C-FDAB6F68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8BABD-AE70-47FB-86AB-9163A3DA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69D0E-2DE2-4FE2-96C2-7B5960D8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AF18D-DFEE-46CA-B148-E22D2EBD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201CF-6F58-4B3A-97ED-72194A37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3D13-BB01-4474-BE2D-D34A57E0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1933B-1C91-493D-B7E3-C1589514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34AF8-D997-48C3-BBFA-27BC62B9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F749F-B497-470B-AC8B-0AB40FD4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35B90-5ADF-4F69-A957-F72FC622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81689-5074-4487-ABB8-1AF630CD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DD371-599C-4458-B777-963DF07F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291AD-8A77-4DE1-9157-D1A69C66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68669-6917-41FC-904E-0B5F8E4B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32FA8-2885-402D-A197-7CF83529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FA566-0552-44BC-81B0-884D6299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F42C-D764-4406-BB9C-378B8EFC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21F80-9A30-4046-94A7-025C2F62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DC093-21CA-4BBE-9375-F71C8FEA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EB11E-11E6-409B-91D1-43456779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8971A-9583-4342-A45B-74B77F61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5BDFA-52ED-4DBE-BD7A-9D194289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AAE2-572B-4E6D-97AC-9D3E4DC9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534C-972A-48A7-8794-D5BDCB65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43D3-09EE-4A13-9771-26D65E96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11CB-D7AE-4BCC-8274-3B2123C0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83CA-D6DE-4981-AC70-39B792AD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0671-C6F8-4E51-BDF4-758F26A2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D0F4-7877-47B4-AE73-AEC5E799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151A-C944-4664-B6ED-FA431F9E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FCF0-A645-4327-A017-F7007920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6742-09AE-45A1-84DE-7759125F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3FDC-0206-4C6D-AF93-B0612B13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C6905-A150-4357-9EC6-9A23EC8D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1B0A1-CFE8-4428-8C7E-36660704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F30E7-D28E-4D3D-A0C6-3CB38441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1A9EB-A428-4284-AC8A-E0BC82D5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9632E-6851-4EA4-A680-BEE8B723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1426-06B9-4E06-99F1-F6840F24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0DF6E-0834-473C-AF3C-F177B2F9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E3BA5-F7A4-475B-B312-68669273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56E4C-CA0F-4D0B-9E3A-34A339DB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6D287-79DD-4F43-B5B1-47B49BF3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5D445-E527-425C-B0B8-2885F054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9002C-A7DE-4C07-A1E3-D2C3B971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6C1C6-DB69-48D2-AEC6-15A1BD67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A33DF3-49F3-4974-9E6C-E8F10E8E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836CA4-6F97-4E8C-B48F-8AE121AE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A8250C-1EB4-4273-BE61-3AD4423A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411B-8ED5-4911-BA52-C0B4F8EF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27A097-5B8F-4CB6-A9C1-368FB05D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96040A-15E8-4576-9E99-D57A5928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714734-C1D0-4324-9384-BAB391E9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546B23-D626-47F2-858D-4EB6D825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249539-8640-446E-9FFA-C6B9C39B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0C745B-5CB0-44A7-BCC0-D6ABA8F7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DDD431-06B6-4112-B39D-1D1F9796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B4CE63-6CE5-4B5A-A031-A050660E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BAA1F3-B739-4004-89BC-F0443880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02D9F6-B9FA-4AE9-AEEC-6B13C5DC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CFD4-79D1-4B86-8A24-4819D8E1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2CDC18-939D-4F46-A054-602B7E0B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DE90E5-54B5-47C3-B05E-B11237F9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8280CB-C2E1-4C61-9CFA-93C4308C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B86272-A1AE-42C2-82D2-5E269FF6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F43CCB-0A8A-4413-A27D-C7C95DC0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186686-946D-4A8E-8C07-347E20A6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A60EA8-0ABC-4BB1-A294-85A82FAA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93763D-075E-458D-9A05-D7B50FED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2269DC-878C-48C8-8868-B3D50ABD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5C489A-1C5E-4F12-901B-A4428AED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B5FC-6CBD-494F-B21B-8FD51926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821329-5D0A-4D63-974E-B0395D45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15EBCC-253B-48BC-8D5D-CCA691AC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3260E4-FDF2-4AE0-8634-C3758920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8B8131-B3D1-44CE-B0B0-578C2188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A9A967-F4D2-46D5-B737-6DA67240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A62A50-9E69-4A76-B9CA-0572E7EF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D9DBF0-F8B8-4E18-A91E-BB9EBB26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481C8B-FA57-4813-88A1-F9FEFBFD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3350F4-5BA5-4310-9AFE-CC7062F2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A24600-3E8D-4253-990D-6EAAFEB4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5C0C-E89A-464E-ACED-A3A15417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FC83BB-0A6B-4FC8-AA67-29576F76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6156F2-AF6B-4517-811E-5325C12C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0841B7-0700-4BB1-AEEF-9BA2C939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A9089-DF1B-4402-87B4-40F7BF37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85CB1-748E-4BE3-973C-6D90F665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74CA8-E9CE-4FD9-B5BF-82BD65EF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E794D-7002-4D70-8541-E356B1C0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AD6CD-8448-4E5C-8DA4-1A4423CF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ABB11-12FF-4C19-B3E6-53C2DB8E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175B3-005F-410A-A979-C0FA460C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5C3E-430E-4172-8C0B-5FB84C6C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F2698-C8AC-4284-95A6-1160B963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E7062-05FA-479E-8C45-19FFF809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CBDE0-083B-4ED2-B3DD-2AD2C5BC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3EA44-150D-4E18-909A-0C50D7EB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3B96A-CCAF-4962-9C38-63B32EAB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14402-BBC4-4B08-BACE-A1E93765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82098-A610-4D1A-A9D7-C0FDC6E9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96B4F-0DCA-4293-8675-EACDA3D6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99CCB-9D7C-4968-AFDE-20FE9932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BE4F7-6BDB-4300-B026-4938C4EC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8D3F-39DB-4FEE-AF13-D0F113BC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AF8B4-5CD8-4D4A-9A07-793E6867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386A5-8FBD-4AE8-8EB2-84E15219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B8C60-21F5-44F0-865C-DDBC866B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294C6-55B5-4774-BE3B-642689C1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54C92-D7DD-451E-A589-76EBC3F6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1BB0F-9428-417D-AFA4-E5B70030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8347D-FFE7-47E5-88BA-069427CB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C33DB-4AA2-4BFD-8393-5B222B55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92D2C-43C6-4F1C-BB0D-8215A93C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49608-1C0D-4D8E-AB65-DA74DE7A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E643-396F-421E-B556-E9205E81704D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59A4-6DAB-4D98-B57F-7A8436F804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BE7A-44AB-4262-BDCA-7AEFD99894DE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7EBA-A64B-4623-A07E-1E004A97686F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A5D3-E581-44B7-B53B-D86B31236AD4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3E8E-D800-4EA1-997F-1D70FE1EE03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5C73-BD65-49AC-A692-17CB984C659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830C-C1AB-4218-B302-330208AF7B3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7DE7-5563-4C62-AB0C-C82175AFF86F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54FD-16E2-4063-A4B5-FA252BA37648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E7AC-DC63-480E-991B-D8BEE617CB41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BF9C-30F0-431C-B9C0-84C6A924C48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30D2-C0DC-4040-8614-6D91995336D3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D2AA-6D42-4839-B340-CA7AA00210BE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664E-CA35-4D8C-B2D6-0701A5E46AAE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BDF6-21DD-4D6E-8FB0-C28FFA5329D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9564-2140-4FC8-9C39-D39421B25572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C90C-3C72-4107-88AE-ACB126345B3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7DA8-726B-4AF9-95D5-F42495A8B83C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0939-9AC6-474B-91EF-7BDBE8A43F7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2951-375D-44D0-AC49-06C89CB51560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4B44-E72C-4CC3-A9BE-2F984EF8DCEF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4141-3D24-4AA2-847A-E452E81FB9A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AAB0-C51D-4D24-8D69-EE51C7D9FA0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Tw Cen MT"/>
              </a:rPr>
              <a:t>ESTIMATES OF U.S. POSTAL DEMAND ELASTICITIES DERIVED FROM A RANDOM-COEFFICIENTS DISCRETE-CHOICE NORMAL MODEL</a:t>
            </a:r>
            <a:endParaRPr b="0" lang="en-US" sz="40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Margaret M. Cigno, Elena S. Patel and Edward S. Pearsal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533520" y="5257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views represented are solely those of the authors and not necessarily those of the Postal Regulatory Commission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6" name="Picture 4" descr="Background_with stamps_white bar.jpg"/>
          <p:cNvPicPr/>
          <p:nvPr/>
        </p:nvPicPr>
        <p:blipFill>
          <a:blip r:embed="rId1"/>
          <a:stretch/>
        </p:blipFill>
        <p:spPr>
          <a:xfrm>
            <a:off x="7765920" y="-19080"/>
            <a:ext cx="1463760" cy="2055960"/>
          </a:xfrm>
          <a:prstGeom prst="rect">
            <a:avLst/>
          </a:prstGeom>
          <a:ln w="0">
            <a:noFill/>
          </a:ln>
        </p:spPr>
      </p:pic>
      <p:sp>
        <p:nvSpPr>
          <p:cNvPr id="537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4B33-D03B-487C-A483-148F4E56C2EC}" type="slidenum">
              <a:rPr b="1" lang="en-US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0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1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78FF-E26E-4A12-A22D-9E13228509FA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Frame 11"/>
          <p:cNvSpPr/>
          <p:nvPr/>
        </p:nvSpPr>
        <p:spPr>
          <a:xfrm>
            <a:off x="2209680" y="3200400"/>
            <a:ext cx="838440" cy="762120"/>
          </a:xfrm>
          <a:custGeom>
            <a:avLst/>
            <a:gdLst>
              <a:gd name="textAreaLeft" fmla="*/ 46080 w 838440"/>
              <a:gd name="textAreaRight" fmla="*/ 792360 w 83844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838200" h="762000">
                <a:moveTo>
                  <a:pt x="0" y="0"/>
                </a:moveTo>
                <a:lnTo>
                  <a:pt x="838200" y="0"/>
                </a:lnTo>
                <a:lnTo>
                  <a:pt x="8382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792114" y="715914"/>
                </a:lnTo>
                <a:lnTo>
                  <a:pt x="7921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TextBox 12"/>
          <p:cNvSpPr/>
          <p:nvPr/>
        </p:nvSpPr>
        <p:spPr>
          <a:xfrm>
            <a:off x="609480" y="4419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ouseholds place a higher value on services that permit heavier mail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6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EC67-E598-4A67-A73D-742114B531D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Frame 11"/>
          <p:cNvSpPr/>
          <p:nvPr/>
        </p:nvSpPr>
        <p:spPr>
          <a:xfrm>
            <a:off x="3048120" y="3200400"/>
            <a:ext cx="3276360" cy="762120"/>
          </a:xfrm>
          <a:custGeom>
            <a:avLst/>
            <a:gdLst>
              <a:gd name="textAreaLeft" fmla="*/ 46080 w 3276360"/>
              <a:gd name="textAreaRight" fmla="*/ 3230280 w 327636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3276600" h="762000">
                <a:moveTo>
                  <a:pt x="0" y="0"/>
                </a:moveTo>
                <a:lnTo>
                  <a:pt x="3276600" y="0"/>
                </a:lnTo>
                <a:lnTo>
                  <a:pt x="32766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3230514" y="715914"/>
                </a:lnTo>
                <a:lnTo>
                  <a:pt x="32305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TextBox 12"/>
          <p:cNvSpPr/>
          <p:nvPr/>
        </p:nvSpPr>
        <p:spPr>
          <a:xfrm>
            <a:off x="609480" y="4419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rds and Parcels are the most highly valued shap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lats are the least valued shap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82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7341-6EA2-48AC-80AC-F96F7389861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Frame 11"/>
          <p:cNvSpPr/>
          <p:nvPr/>
        </p:nvSpPr>
        <p:spPr>
          <a:xfrm>
            <a:off x="6324480" y="3200400"/>
            <a:ext cx="838440" cy="762120"/>
          </a:xfrm>
          <a:custGeom>
            <a:avLst/>
            <a:gdLst>
              <a:gd name="textAreaLeft" fmla="*/ 46080 w 838440"/>
              <a:gd name="textAreaRight" fmla="*/ 792360 w 83844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838200" h="762000">
                <a:moveTo>
                  <a:pt x="0" y="0"/>
                </a:moveTo>
                <a:lnTo>
                  <a:pt x="838200" y="0"/>
                </a:lnTo>
                <a:lnTo>
                  <a:pt x="8382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792114" y="715914"/>
                </a:lnTo>
                <a:lnTo>
                  <a:pt x="7921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TextBox 12"/>
          <p:cNvSpPr/>
          <p:nvPr/>
        </p:nvSpPr>
        <p:spPr>
          <a:xfrm>
            <a:off x="609480" y="4419720"/>
            <a:ext cx="792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flects a preference for mail that may be workshar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esortation allows for a more efficient division of mail prepar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s also associated with many other advantag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ulk entry, simplified weight-based payment, faster service, etc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Elasticity Estimates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533520" y="1981080"/>
          <a:ext cx="7848360" cy="4008600"/>
        </p:xfrm>
        <a:graphic>
          <a:graphicData uri="http://schemas.openxmlformats.org/drawingml/2006/table">
            <a:tbl>
              <a:tblPr/>
              <a:tblGrid>
                <a:gridCol w="617400"/>
                <a:gridCol w="1744560"/>
                <a:gridCol w="731880"/>
                <a:gridCol w="731880"/>
                <a:gridCol w="730440"/>
                <a:gridCol w="731520"/>
                <a:gridCol w="731880"/>
                <a:gridCol w="731880"/>
                <a:gridCol w="1096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hress (USPS 20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irst-Cl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ingle-Pie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189 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063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irst-Cl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eS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436 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92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riodicals (In Count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3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3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anda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n Carrier Ro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33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65 (N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rrier Ro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,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3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7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542 (N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</a:tbl>
          </a:graphicData>
        </a:graphic>
      </p:graphicFrame>
      <p:sp>
        <p:nvSpPr>
          <p:cNvPr id="588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D537-9646-4B80-8C81-BDD784F3F93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Preliminary Conclusion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0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9279-C716-4038-ACA6-161142A5676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1272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have found a model and methodology for estimating elasticities across all postal produ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tatistical properties of the model are quite goo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gns of coefficients conform to expectatio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.S. postal products are much more sensitive to demand than conventional models estim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nventional models yield estimates that combine the effects of own and all cross-price elastici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sults should be regarded as the early results of an initial explor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Future Work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3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4C7F-787C-426D-8DBD-9FED9906025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ur application of the Random-Coefficient Discrete-Choice Normal mode leaves room for improve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fit the model using quarterly data with post PAEA definitions of mail clas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include a broader set of demographic variabl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include a broader set of hedonic proper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fficiency of the estimation methodology could be improved through generalized least squa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onventional Demand Model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orly suited to estimate elasticities in markets with many similar produ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utomobiles, Breakfast Cereals, Postal Produ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ventional Mo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mploys a demand model for each produ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hould include the price of all relevant produ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rings rise to familiar econometric proble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urdensome data require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ices of many products are highly correlated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ross-Price elasticity estimation requires large sample size with sufficient vari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D985-DC8B-400D-9E05-E261A1459ED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Conventional Postal Demand Models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se problems are not unfamiliar to postal practition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(US) data are typically quarterly national aggregates from 1971 to pres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al postal rates tend to change together due to inflation and coordination imposed by price cap regul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.S. Postal Service products divide into at least 15 different categories with distinct hedonic propert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ypically, models are fit including only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own-price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ata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voids multicolinearity problem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sult is an incomplete set of postal price elasticity estimat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0BAB-5AED-4E19-A0E3-D38277C46E5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A BLP Solution?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Berry </a:t>
            </a:r>
            <a:r>
              <a:rPr b="0" i="1" lang="en-US" sz="2700" spc="-1" strike="noStrike">
                <a:solidFill>
                  <a:srgbClr val="000000"/>
                </a:solidFill>
                <a:latin typeface="Tw Cen MT"/>
              </a:rPr>
              <a:t>et al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(1995) introduce a Random-Coefficient Discrete-Choice Logit Model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dividual choice model used to estimate demand in a differentiated products marke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quires only market-level dat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nown to produce cross-price elasticities that reflect realistic substitution pattern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urrent “model du jour” in the Industrial Organization literatu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argely based on the version presented by Nevo (2000, 2001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as yet to be tried in the Postal Sect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A580-9568-493C-89D3-CF6AC4885DC8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The Guts of the Model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24382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inear Utility Fun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wo Mean-Centered Disturbanc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andom Coeffici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Gains or losses to household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when purchasing and consuming product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j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665280" y="1727280"/>
                <a:ext cx="7735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A9B5-43CA-431B-A4B6-35B0B9A1931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BLP: The Good and the Bad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6840" y="1523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Good News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del conforms well to economic theor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s not overly restrictive with respect to price elasticity estimat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ad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del was designed for “big ticket” item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quires distribution of mean-centered demographic variables and measurements of hedonic properti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Worse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e do not observe indirect utility, individual income, or consumer surplu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tting the model involves integrating out all of the random terms except for the mean disturban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LP/Nevo requires a simulation to extract mean indirect utilities by matching market share data (slow!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uch Worse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LP/Nevo is itself an algorithm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peated calculation of mean indirect utilities is required to fit the model (may take days or weeks to run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8CB2-9BFE-4841-A0B5-C81091C0A4F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A Modified BLP Solution!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5235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discovered a way to revise the model and greatly simplify/speed up the estimation proces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replace the demographic variables with their principal component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transformation forms a linear combination of variables that are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iid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N(0,1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ith this chang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simulation is replaced with a single-variable numerical integr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estimation method is replaced with a Newton-Raphson method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odel can now be fit in under 12 hours with a moderately-sized postal applic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will ultimately split this paper in two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per # 1 – Model and Methodology (Sections 1-6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per # 2 – Postal Application (Sections 7,8, and Appendix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A6A4-EB07-4434-8552-EE424619A21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U.S. Postal Service Application – The Data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We fit the model using both a fixed-weight index (FWI) and revenues per piece (RPP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del was fit using 40-year time series PFY 1972 to PFY 2011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edonic properties are taken from Pearsall and Trozzo (2011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asures are based on the U.S. Postal Service mail stream during PFY 2009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emographic variables suggested by conventional econometric studies of U.S. postal deman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arsall (2005, 2011) and Thress (2012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A3F8-7588-4F22-934E-9988CF2B954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Postal Application-Definition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1"/>
          <a:srcRect l="0" t="6257" r="55092" b="32465"/>
          <a:stretch/>
        </p:blipFill>
        <p:spPr>
          <a:xfrm>
            <a:off x="228600" y="1523880"/>
            <a:ext cx="4295880" cy="35053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2"/>
          <a:srcRect l="46961" t="6064" r="4886" b="37378"/>
          <a:stretch/>
        </p:blipFill>
        <p:spPr>
          <a:xfrm>
            <a:off x="4419720" y="1523880"/>
            <a:ext cx="4487760" cy="33530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" descr=""/>
          <p:cNvPicPr/>
          <p:nvPr/>
        </p:nvPicPr>
        <p:blipFill>
          <a:blip r:embed="rId3"/>
          <a:srcRect l="1885" t="71218" r="21836" b="0"/>
          <a:stretch/>
        </p:blipFill>
        <p:spPr>
          <a:xfrm>
            <a:off x="1066680" y="5065560"/>
            <a:ext cx="7315200" cy="1716120"/>
          </a:xfrm>
          <a:prstGeom prst="rect">
            <a:avLst/>
          </a:prstGeom>
          <a:ln w="0">
            <a:noFill/>
          </a:ln>
        </p:spPr>
      </p:pic>
      <p:sp>
        <p:nvSpPr>
          <p:cNvPr id="564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7F0B-8269-4330-83E1-3FF8B56E738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Frame 9"/>
          <p:cNvSpPr/>
          <p:nvPr/>
        </p:nvSpPr>
        <p:spPr>
          <a:xfrm>
            <a:off x="4800600" y="1752480"/>
            <a:ext cx="2819520" cy="609840"/>
          </a:xfrm>
          <a:custGeom>
            <a:avLst/>
            <a:gdLst>
              <a:gd name="textAreaLeft" fmla="*/ 46440 w 2819520"/>
              <a:gd name="textAreaRight" fmla="*/ 2773080 w 2819520"/>
              <a:gd name="textAreaTop" fmla="*/ 46440 h 609840"/>
              <a:gd name="textAreaBottom" fmla="*/ 563400 h 609840"/>
            </a:gdLst>
            <a:ahLst/>
            <a:rect l="textAreaLeft" t="textAreaTop" r="textAreaRight" b="textAreaBottom"/>
            <a:pathLst>
              <a:path w="2819400" h="609600">
                <a:moveTo>
                  <a:pt x="0" y="0"/>
                </a:moveTo>
                <a:lnTo>
                  <a:pt x="2819400" y="0"/>
                </a:lnTo>
                <a:lnTo>
                  <a:pt x="2819400" y="609600"/>
                </a:lnTo>
                <a:lnTo>
                  <a:pt x="0" y="609600"/>
                </a:lnTo>
                <a:close/>
                <a:moveTo>
                  <a:pt x="46701" y="46701"/>
                </a:moveTo>
                <a:lnTo>
                  <a:pt x="46701" y="562899"/>
                </a:lnTo>
                <a:lnTo>
                  <a:pt x="2772699" y="562899"/>
                </a:lnTo>
                <a:lnTo>
                  <a:pt x="2772699" y="467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Frame 10"/>
          <p:cNvSpPr/>
          <p:nvPr/>
        </p:nvSpPr>
        <p:spPr>
          <a:xfrm>
            <a:off x="4724280" y="2971800"/>
            <a:ext cx="3962520" cy="990720"/>
          </a:xfrm>
          <a:custGeom>
            <a:avLst/>
            <a:gdLst>
              <a:gd name="textAreaLeft" fmla="*/ 75600 w 3962520"/>
              <a:gd name="textAreaRight" fmla="*/ 3886920 w 3962520"/>
              <a:gd name="textAreaTop" fmla="*/ 75600 h 990720"/>
              <a:gd name="textAreaBottom" fmla="*/ 915120 h 990720"/>
            </a:gdLst>
            <a:ahLst/>
            <a:rect l="textAreaLeft" t="textAreaTop" r="textAreaRight" b="textAreaBottom"/>
            <a:pathLst>
              <a:path w="3962400" h="990600">
                <a:moveTo>
                  <a:pt x="0" y="0"/>
                </a:moveTo>
                <a:lnTo>
                  <a:pt x="3962400" y="0"/>
                </a:lnTo>
                <a:lnTo>
                  <a:pt x="3962400" y="990600"/>
                </a:lnTo>
                <a:lnTo>
                  <a:pt x="0" y="990600"/>
                </a:lnTo>
                <a:close/>
                <a:moveTo>
                  <a:pt x="75890" y="75890"/>
                </a:moveTo>
                <a:lnTo>
                  <a:pt x="75890" y="914710"/>
                </a:lnTo>
                <a:lnTo>
                  <a:pt x="3886510" y="914710"/>
                </a:lnTo>
                <a:lnTo>
                  <a:pt x="3886510" y="758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Frame 11"/>
          <p:cNvSpPr/>
          <p:nvPr/>
        </p:nvSpPr>
        <p:spPr>
          <a:xfrm>
            <a:off x="4724280" y="3962520"/>
            <a:ext cx="4191120" cy="609480"/>
          </a:xfrm>
          <a:custGeom>
            <a:avLst/>
            <a:gdLst>
              <a:gd name="textAreaLeft" fmla="*/ 46440 w 4191120"/>
              <a:gd name="textAreaRight" fmla="*/ 4144680 w 4191120"/>
              <a:gd name="textAreaTop" fmla="*/ 46440 h 609480"/>
              <a:gd name="textAreaBottom" fmla="*/ 563040 h 609480"/>
            </a:gdLst>
            <a:ahLst/>
            <a:rect l="textAreaLeft" t="textAreaTop" r="textAreaRight" b="textAreaBottom"/>
            <a:pathLst>
              <a:path w="4191000" h="609600">
                <a:moveTo>
                  <a:pt x="0" y="0"/>
                </a:moveTo>
                <a:lnTo>
                  <a:pt x="4191000" y="0"/>
                </a:lnTo>
                <a:lnTo>
                  <a:pt x="4191000" y="609600"/>
                </a:lnTo>
                <a:lnTo>
                  <a:pt x="0" y="609600"/>
                </a:lnTo>
                <a:close/>
                <a:moveTo>
                  <a:pt x="46701" y="46701"/>
                </a:moveTo>
                <a:lnTo>
                  <a:pt x="46701" y="562899"/>
                </a:lnTo>
                <a:lnTo>
                  <a:pt x="4144299" y="562899"/>
                </a:lnTo>
                <a:lnTo>
                  <a:pt x="4144299" y="467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8:03:00Z</dcterms:created>
  <dc:creator>pateles</dc:creator>
  <dc:description/>
  <dc:language>en-US</dc:language>
  <cp:lastModifiedBy>ANASIELT</cp:lastModifiedBy>
  <dcterms:modified xsi:type="dcterms:W3CDTF">2012-07-12T17:19:21Z</dcterms:modified>
  <cp:revision>156</cp:revision>
  <dc:subject/>
  <dc:title>Estimates of U.S. Postal Demand Elasticities Derived from a Random-Coefficients Discrete-Choice Normal Model</dc:title>
</cp:coreProperties>
</file>