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CEFA-9FEE-42F7-82BB-A529EC956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38D1-8D1B-4A67-B987-F63C9C2A1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B582-6169-4848-A4DD-3DE9AD356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0250-C413-4588-91A2-60F42C230E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FA6E-765B-48B2-BFB0-A2C70E40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EA17-0BA5-4A22-A8D8-78859AF1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DD81C-5925-4837-96B1-03A91C2D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41FFE-2E9A-4051-868C-F04CC043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F8381-CAF5-4D36-B7A8-77E211AC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8F1B9-E632-4161-A3DA-60C67C62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32218-DD95-491B-9AE4-D254FB87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A60E4-B628-4BBE-B892-AFA8AFBE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E1932-2A5B-42F4-960D-ACDDC040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53789-ABFE-4D6E-80D5-976E58E7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68EE5-D156-4BE8-9D42-F62C2853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556AF4-B0E2-46A7-86EA-B5E93D30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E368-AAF5-4F4D-81AD-CA792AEE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044BB7-F426-4793-A7B0-A228ABB6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226EAD-38A2-4475-A555-C5ABAAAD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62C944-2ED4-45A9-8C05-F052F087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DAFAF5-DED0-4D21-9EDB-F23C9AF6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2BB3EF-E868-45D2-9C9F-E918631D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42F31F-B5B6-4A1D-848A-AB844AD0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AF4047-3FE0-4BC0-B920-69B84D74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EED304-386C-4989-8F02-2039687C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674C69-7F1B-4084-983C-FC4A9AD6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31593B-85F2-4D4C-8EBA-2A32CB1D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0C85-2009-49B9-97CA-EFA258B9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C3384B-76A7-4CC8-B05A-078AD126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A37FB-4608-4A5D-85F9-493283A3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44CDA-C5D3-49A0-9470-6344DC5D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9D9E6-472D-48F6-AC1C-7E820CBF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243E6-B59F-45A8-A7FD-76FEC359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87504-464A-4759-A5C5-E4216087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83A94-1C8A-4F64-A6D9-E44C2EF1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92D98-4B8D-471B-8889-CA0698E8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690A6-0841-4120-9917-6BE069B0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10597-9B14-421F-92DA-3A85D0F2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FB0B-E72D-4572-937B-B6C6B0B6D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6FEA8-91E8-4B2C-B894-9B80FE1E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81EB3-05CD-4521-88A3-7DE29341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2041F-DF18-4476-87FF-4A921578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2431D-D984-40FC-967B-2E44A6C6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C3540-4495-4823-B92B-AEEFEB3B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F4100-8B33-46F9-8350-ABFC6445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A88BA-BBE1-4333-B13E-81C2C8A6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E0C04-7AD5-47E8-A5AB-EB4E1470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2F46D-E95A-4554-9CC6-9ADF8251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9FFEC-BC99-4C16-B6F2-19DCF246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57D7-3C82-4B17-A256-04A528D5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CE92D-2D53-46BD-88EB-2F29ACCF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B1AF1-6CC6-425B-889D-19DF9918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FB1A1-59F7-4CEB-8E21-9348591D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D80E0-02B6-4905-8497-5DFC55D1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8D4D7-4769-4FB5-B830-AD3B2B28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BD70-0C70-4D8E-ADEE-0A159591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7A99-6769-4D3C-B546-1888AFF2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BC07-3C28-4AC9-B63D-15B28331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361E-A042-45E2-B9E1-C2AF67B8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F2C5-3CE7-47EA-8335-0362F71C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B258-45F5-4B66-9251-F4D49FC0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02B3-5968-431D-B890-EFC2ECB1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4F98-9599-4C59-B41E-40F7B1E6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4DDE-1BC7-47AE-A58C-C039B8B2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B578-6665-4BE7-9D45-9DF76282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EAE2-1975-4901-A1B1-12F7C1E2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14F93-42F9-4CAD-8755-6D2618B3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E15EC-080A-43A7-B5F2-0C5AE0CC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BEE1F-50C4-4466-942D-19BB0615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0E098-A2EF-42E3-B881-32E5466A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ABD38-6211-4A16-B133-586E931B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A7B9-45A7-43D2-BDC1-A2144627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5DFE1-000F-4BEC-9045-CAC04859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E92DB-E188-4A16-9F59-82CD08CA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F5AB0-FB98-4B47-9AC7-5AC9C33C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44DC0-7780-4FD9-B10A-E2270F13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1B9D0-551E-4603-902B-BF1BA481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B263B-20FA-4554-A923-450294FC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6AEDA-B490-4D47-BA5A-3BF66E23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AE1EF0-5C71-4612-9313-6DCCAF4E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556E51-37AA-4D2C-ABB5-0D7C3C80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EF2328-A69A-4E58-B990-50161BC2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DF0E-3605-45C3-AF37-6E3273B8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732C27-EDD6-4AF1-9355-A4734AB4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C4E56D-D4C0-4734-B9D6-A653105E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2B297D-B642-43A2-B0FB-33FAC267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148ED7-F0B6-4EC8-A7C5-8A7B211F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8A5871-0F3C-4DF1-A07E-780C3E08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1D18C7-9949-4EC9-BF74-37B5BC53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B6D4C3-C087-45E6-BD1D-4526844B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719F1A-0CB8-4534-BEF7-57040E8E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1D2BF0-5CFE-463D-B723-2415A7DA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9C17E1-F479-4B1A-A8F2-E65249B9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DBFA-CB2C-43D9-B5BB-A684DA22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3C9EC4-8EB1-44A4-98B3-3EBF9D7A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B4DACF-8863-4670-AFEE-6A0C56B9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9EC08C-7407-4686-BDCA-1145796D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B0737B-9A13-4301-93CE-7EBCBD63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6F8C4F-0742-453D-828F-C2FB2550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A675DE-BD29-4981-96B5-E21021C5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DD5C92-59CF-4E20-8239-A1658076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BD6A24-FA30-4ECF-8F24-3169BA69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5747FC-9998-46E5-823B-6C891760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DFDCB3-ED54-41CA-B6D4-5DD830C7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7534-AB9E-4EDC-AD8D-0C23099F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B36297-4125-4F04-B31F-C7CD3C4C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AF9D91-F81F-48CF-9EFA-AB5C762F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1EB842-0D94-4919-8B7C-8C137E69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F5F9D9-F475-405B-B205-171BAC3F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A0379D-2E80-44CC-AF6C-535FC4E3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AA0C57-E74A-4B6D-B0F8-9526035F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99B2CA-C38F-4AE5-AD58-4EEB4947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5ED032-A684-449D-81FE-FF2F9E97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D5F412-835E-45BD-A1EC-BB5DBCCE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16401A-B2E5-4336-93FC-A6DD5BCC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75AD-2736-442A-903C-A5AC2B05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5537C5-A2CE-40AE-840A-5AEAD4A0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30BBEC-3A3D-48C2-B304-49F3B2DB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D8092E-49A1-43D4-A6B7-CDF7D4F0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79F6E-5BDE-4DC0-B74E-0583EC52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8A506-58EC-4009-9F63-EB6320D3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15D43-E755-4EDE-AFFC-37D39368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9E474-8ACC-4545-8785-04364E5A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C0D7B-702F-4DF0-98AB-DDBDC822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5AFFF-1867-4407-A4DE-8E3C4E1A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FDA9C-7FBE-433E-A60A-61262400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A25C-1927-4CAD-9518-1A2D7FBA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946FE-1040-4F2A-BFF1-9D4F2AF0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5EE48-A0C3-41D7-B37F-7E8B4097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3881D-7B6E-4FD1-9A61-E8F0BFC1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CC7FD-416D-4ECB-B31C-23633514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A290B-7EF8-460C-9B57-BD9996D6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6510F-53A6-4ED7-8014-49A92769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C01C0-6433-47AC-AAC9-E340224C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14761-B4CE-4341-8F16-322537FC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E06DA-153F-4EC2-A38B-4F2B2A4C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E9565-1022-4FB7-8B6B-5162916B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1AD3-11D8-4A0C-9F82-62FC760A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45DD3-90DA-45FC-9510-EDB274C0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B4246-6E58-4DD2-87B2-7FA7BE00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4D4DA-B197-4369-8856-DBB77836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1FD32-CD0C-4FCB-9651-BD2BBA28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BA919-9F80-4569-8FC8-815CBBE0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3374B-FEE9-4F7D-A31E-13CD9ED1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AA824-8C5A-4E14-872F-E162FFA0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44EC3-B62F-41F5-8AAB-5BD8693C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DB5E9-C172-4FB5-B712-C7E620EB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26A1F-67E2-479C-9CC5-E487C6F0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E503-8692-4C07-A75B-74238B980956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4379-8A83-41FC-A3BE-CA2441AF821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A899-37C1-48E4-B8A1-FF1EFBBD551A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2A08-D3FD-4861-9824-D693F45C6D45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F20D-2367-46E3-8669-30ACAF22936D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BA84-3E38-4ECE-9BB3-720348D94F1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CD97-1A24-477D-B0E0-1835E9650541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0459-42C3-45E0-95A5-2F4C41D9365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9728-ED36-47DA-BCCC-58CC90ED3145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47EC-1E23-49E4-996B-5CA1E891A5A1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CEE2-B0E5-4F3E-B7DA-901FEBE49145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D1C0-9119-4A7B-B553-272599B629E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2C50-2691-4F7B-B29C-5F4BB53D26C3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55FA-C4CB-48CD-BE13-23F0712C79E9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90FB-9DD5-4EA8-9817-CA4A5AECB7A7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FA04-3535-4E52-B55C-74999567D0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08BC-3380-4E72-A26A-CC8E88788867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BE5D-6736-4CD5-A0B3-63D0970E6AD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4D5C-A0F0-40AA-A40A-59C9D7507EDC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5226-A3F1-4D29-A07E-A84916A9B54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5A6E-F758-4468-AA1F-05126DB10137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5137-238D-47AD-8345-E884D1DED734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086C-3737-42C7-BD85-71B9605D4226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042C-70A5-4832-9C7C-5E7C0B41F9A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Tw Cen MT"/>
              </a:rPr>
              <a:t>ESTIMATES OF U.S. POSTAL DEMAND ELASTICITIES DERIVED FROM A RANDOM-COEFFICIENTS DISCRETE-CHOICE NORMAL MODEL</a:t>
            </a:r>
            <a:endParaRPr b="0" lang="en-US" sz="40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Margaret M. Cigno, Elena S. Patel and Edward S. Pearsal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533520" y="5257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views represented are solely those of the authors and not necessarily those of the Postal Regulatory Commission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6" name="Picture 4" descr="Background_with stamps_white bar.jpg"/>
          <p:cNvPicPr/>
          <p:nvPr/>
        </p:nvPicPr>
        <p:blipFill>
          <a:blip r:embed="rId1"/>
          <a:stretch/>
        </p:blipFill>
        <p:spPr>
          <a:xfrm>
            <a:off x="7765920" y="-19080"/>
            <a:ext cx="1463760" cy="2055960"/>
          </a:xfrm>
          <a:prstGeom prst="rect">
            <a:avLst/>
          </a:prstGeom>
          <a:ln w="0">
            <a:noFill/>
          </a:ln>
        </p:spPr>
      </p:pic>
      <p:sp>
        <p:nvSpPr>
          <p:cNvPr id="537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CD7B-0AC5-4C56-8C7A-615477B8796E}" type="slidenum">
              <a:rPr b="1" lang="en-US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0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1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2725-BBEF-4531-AD3F-0B43DEB2CAF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Frame 11"/>
          <p:cNvSpPr/>
          <p:nvPr/>
        </p:nvSpPr>
        <p:spPr>
          <a:xfrm>
            <a:off x="2209680" y="3200400"/>
            <a:ext cx="838440" cy="762120"/>
          </a:xfrm>
          <a:custGeom>
            <a:avLst/>
            <a:gdLst>
              <a:gd name="textAreaLeft" fmla="*/ 46080 w 838440"/>
              <a:gd name="textAreaRight" fmla="*/ 792360 w 83844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838200" h="762000">
                <a:moveTo>
                  <a:pt x="0" y="0"/>
                </a:moveTo>
                <a:lnTo>
                  <a:pt x="838200" y="0"/>
                </a:lnTo>
                <a:lnTo>
                  <a:pt x="8382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792114" y="715914"/>
                </a:lnTo>
                <a:lnTo>
                  <a:pt x="7921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TextBox 12"/>
          <p:cNvSpPr/>
          <p:nvPr/>
        </p:nvSpPr>
        <p:spPr>
          <a:xfrm>
            <a:off x="609480" y="4419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ouseholds place a higher value on services that permit heavier mail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6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B63A-2E1D-4C4E-BEFD-D5ACD0D191C3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Frame 11"/>
          <p:cNvSpPr/>
          <p:nvPr/>
        </p:nvSpPr>
        <p:spPr>
          <a:xfrm>
            <a:off x="3048120" y="3200400"/>
            <a:ext cx="3276360" cy="762120"/>
          </a:xfrm>
          <a:custGeom>
            <a:avLst/>
            <a:gdLst>
              <a:gd name="textAreaLeft" fmla="*/ 46080 w 3276360"/>
              <a:gd name="textAreaRight" fmla="*/ 3230280 w 327636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3276600" h="762000">
                <a:moveTo>
                  <a:pt x="0" y="0"/>
                </a:moveTo>
                <a:lnTo>
                  <a:pt x="3276600" y="0"/>
                </a:lnTo>
                <a:lnTo>
                  <a:pt x="32766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3230514" y="715914"/>
                </a:lnTo>
                <a:lnTo>
                  <a:pt x="32305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TextBox 12"/>
          <p:cNvSpPr/>
          <p:nvPr/>
        </p:nvSpPr>
        <p:spPr>
          <a:xfrm>
            <a:off x="609480" y="4419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rds and Parcels are the most highly valued shap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lats are the least valued shap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82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89F0-33AA-4C53-911D-93EDF45C87B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Frame 11"/>
          <p:cNvSpPr/>
          <p:nvPr/>
        </p:nvSpPr>
        <p:spPr>
          <a:xfrm>
            <a:off x="6324480" y="3200400"/>
            <a:ext cx="838440" cy="762120"/>
          </a:xfrm>
          <a:custGeom>
            <a:avLst/>
            <a:gdLst>
              <a:gd name="textAreaLeft" fmla="*/ 46080 w 838440"/>
              <a:gd name="textAreaRight" fmla="*/ 792360 w 83844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838200" h="762000">
                <a:moveTo>
                  <a:pt x="0" y="0"/>
                </a:moveTo>
                <a:lnTo>
                  <a:pt x="838200" y="0"/>
                </a:lnTo>
                <a:lnTo>
                  <a:pt x="8382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792114" y="715914"/>
                </a:lnTo>
                <a:lnTo>
                  <a:pt x="7921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TextBox 12"/>
          <p:cNvSpPr/>
          <p:nvPr/>
        </p:nvSpPr>
        <p:spPr>
          <a:xfrm>
            <a:off x="609480" y="4419720"/>
            <a:ext cx="792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flects a preference for mail that may be workshar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esortation allows for a more efficient division of mail prepar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s also associated with many other advantag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ulk entry, simplified weight-based payment, faster service, etc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Elasticity Estimates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533520" y="1981080"/>
          <a:ext cx="7848360" cy="4008600"/>
        </p:xfrm>
        <a:graphic>
          <a:graphicData uri="http://schemas.openxmlformats.org/drawingml/2006/table">
            <a:tbl>
              <a:tblPr/>
              <a:tblGrid>
                <a:gridCol w="617400"/>
                <a:gridCol w="1744560"/>
                <a:gridCol w="731880"/>
                <a:gridCol w="731880"/>
                <a:gridCol w="730440"/>
                <a:gridCol w="731520"/>
                <a:gridCol w="731880"/>
                <a:gridCol w="731880"/>
                <a:gridCol w="1096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hress (USPS 20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irst-Cl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ingle-Pie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189 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063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irst-Cl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eS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436 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92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riodicals (In Count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3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3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anda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n Carrier Ro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33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65 (N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rrier Ro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,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3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7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542 (N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</a:tbl>
          </a:graphicData>
        </a:graphic>
      </p:graphicFrame>
      <p:sp>
        <p:nvSpPr>
          <p:cNvPr id="588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60B7-3C62-4E80-8AF9-1DEC1FF0409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Preliminary Conclusion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0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2BFA-52BC-464D-9A19-7A1D7B3BB37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1272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have found a model and methodology for estimating elasticities across all postal produ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tatistical properties of the model are quite goo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gns of coefficients conform to expectatio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.S. postal products are much more sensitive to demand than conventional models estim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nventional models yield estimates that combine the effects of own and all cross-price elastici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sults should be regarded as the early results of an initial explor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Future Work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3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B6B4-032C-4F42-8F42-304912824C4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ur application of the Random-Coefficient Discrete-Choice Normal mode leaves room for improve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fit the model using quarterly data with post PAEA definitions of mail clas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include a broader set of demographic variabl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include a broader set of hedonic proper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fficiency of the estimation methodology could be improved through generalized least squa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onventional Demand Model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orly suited to estimate elasticities in markets with many similar produ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utomobiles, Breakfast Cereals, Postal Produ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ventional Mo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mploys a demand model for each produ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hould include the price of all relevant produ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rings rise to familiar econometric proble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urdensome data require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ices of many products are highly correlated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ross-Price elasticity estimation requires large sample size with sufficient vari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2D60-DAF9-4003-839C-1FC9638FF04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Conventional Postal Demand Models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se problems are not unfamiliar to postal practition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(US) data are typically quarterly national aggregates from 1971 to pres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al postal rates tend to change together due to inflation and coordination imposed by price cap regul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.S. Postal Service products divide into at least 15 different categories with distinct hedonic propert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ypically, models are fit including only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own-price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ata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voids multicolinearity problem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sult is an incomplete set of postal price elasticity estimat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F5AB-6A33-45F1-B3E4-708E1BF3493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A BLP Solution?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Berry </a:t>
            </a:r>
            <a:r>
              <a:rPr b="0" i="1" lang="en-US" sz="2700" spc="-1" strike="noStrike">
                <a:solidFill>
                  <a:srgbClr val="000000"/>
                </a:solidFill>
                <a:latin typeface="Tw Cen MT"/>
              </a:rPr>
              <a:t>et al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(1995) introduce a Random-Coefficient Discrete-Choice Logit Model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dividual choice model used to estimate demand in a differentiated products marke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quires only market-level dat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nown to produce cross-price elasticities that reflect realistic substitution pattern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urrent “model du jour” in the Industrial Organization literatu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argely based on the version presented by Nevo (2000, 2001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as yet to be tried in the Postal Sect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A900-DD32-410D-9D02-F3A86842A66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The Guts of the Model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24382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inear Utility Fun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wo Mean-Centered Disturbanc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andom Coeffici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Gains or losses to household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when purchasing and consuming product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j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665280" y="1727280"/>
                <a:ext cx="7735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257C-9F01-45E4-8EDA-BA204AD5BFB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BLP: The Good and the Bad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6840" y="1523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Good News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del conforms well to economic theor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s not overly restrictive with respect to price elasticity estimat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ad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del was designed for “big ticket” item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quires distribution of mean-centered demographic variables and measurements of hedonic properti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Worse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e do not observe indirect utility, individual income, or consumer surplu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tting the model involves integrating out all of the random terms except for the mean disturban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LP/Nevo requires a simulation to extract mean indirect utilities by matching market share data (slow!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uch Worse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LP/Nevo is itself an algorithm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peated calculation of mean indirect utilities is required to fit the model (may take days or weeks to run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C872-5150-41D2-BB74-C9396889A963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A Modified BLP Solution!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5235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discovered a way to revise the model and greatly simplify/speed up the estimation proces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replace the demographic variables with their principal component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transformation forms a linear combination of variables that are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iid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N(0,1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ith this chang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simulation is replaced with a single-variable numerical integr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estimation method is replaced with a Newton-Raphson method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odel can now be fit in under 12 hours with a moderately-sized postal applic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will ultimately split this paper in two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per # 1 – Model and Methodology (Sections 1-6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per # 2 – Postal Application (Sections 7,8, and Appendix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EC06-3A29-4065-88E4-287CD2AF271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U.S. Postal Service Application – The Data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We fit the model using both a fixed-weight index (FWI) and revenues per piece (RPP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del was fit using 40-year time series PFY 1972 to PFY 2011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edonic properties are taken from Pearsall and Trozzo (2011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asures are based on the U.S. Postal Service mail stream during PFY 2009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emographic variables suggested by conventional econometric studies of U.S. postal deman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arsall (2005, 2011) and Thress (2012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E6C9-67D6-498D-83B7-74B60F960A4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Postal Application-Definition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1"/>
          <a:srcRect l="0" t="6257" r="55092" b="32465"/>
          <a:stretch/>
        </p:blipFill>
        <p:spPr>
          <a:xfrm>
            <a:off x="228600" y="1523880"/>
            <a:ext cx="4295880" cy="35053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2"/>
          <a:srcRect l="46961" t="6064" r="4886" b="37378"/>
          <a:stretch/>
        </p:blipFill>
        <p:spPr>
          <a:xfrm>
            <a:off x="4419720" y="1523880"/>
            <a:ext cx="4487760" cy="33530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" descr=""/>
          <p:cNvPicPr/>
          <p:nvPr/>
        </p:nvPicPr>
        <p:blipFill>
          <a:blip r:embed="rId3"/>
          <a:srcRect l="1885" t="71218" r="21836" b="0"/>
          <a:stretch/>
        </p:blipFill>
        <p:spPr>
          <a:xfrm>
            <a:off x="1066680" y="5065560"/>
            <a:ext cx="7315200" cy="1716120"/>
          </a:xfrm>
          <a:prstGeom prst="rect">
            <a:avLst/>
          </a:prstGeom>
          <a:ln w="0">
            <a:noFill/>
          </a:ln>
        </p:spPr>
      </p:pic>
      <p:sp>
        <p:nvSpPr>
          <p:cNvPr id="564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CF4D-C1A4-47D8-8F67-8484223697C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Frame 9"/>
          <p:cNvSpPr/>
          <p:nvPr/>
        </p:nvSpPr>
        <p:spPr>
          <a:xfrm>
            <a:off x="4800600" y="1752480"/>
            <a:ext cx="2819520" cy="609840"/>
          </a:xfrm>
          <a:custGeom>
            <a:avLst/>
            <a:gdLst>
              <a:gd name="textAreaLeft" fmla="*/ 46440 w 2819520"/>
              <a:gd name="textAreaRight" fmla="*/ 2773080 w 2819520"/>
              <a:gd name="textAreaTop" fmla="*/ 46440 h 609840"/>
              <a:gd name="textAreaBottom" fmla="*/ 563400 h 609840"/>
            </a:gdLst>
            <a:ahLst/>
            <a:rect l="textAreaLeft" t="textAreaTop" r="textAreaRight" b="textAreaBottom"/>
            <a:pathLst>
              <a:path w="2819400" h="609600">
                <a:moveTo>
                  <a:pt x="0" y="0"/>
                </a:moveTo>
                <a:lnTo>
                  <a:pt x="2819400" y="0"/>
                </a:lnTo>
                <a:lnTo>
                  <a:pt x="2819400" y="609600"/>
                </a:lnTo>
                <a:lnTo>
                  <a:pt x="0" y="609600"/>
                </a:lnTo>
                <a:close/>
                <a:moveTo>
                  <a:pt x="46701" y="46701"/>
                </a:moveTo>
                <a:lnTo>
                  <a:pt x="46701" y="562899"/>
                </a:lnTo>
                <a:lnTo>
                  <a:pt x="2772699" y="562899"/>
                </a:lnTo>
                <a:lnTo>
                  <a:pt x="2772699" y="467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Frame 10"/>
          <p:cNvSpPr/>
          <p:nvPr/>
        </p:nvSpPr>
        <p:spPr>
          <a:xfrm>
            <a:off x="4724280" y="2971800"/>
            <a:ext cx="3962520" cy="990720"/>
          </a:xfrm>
          <a:custGeom>
            <a:avLst/>
            <a:gdLst>
              <a:gd name="textAreaLeft" fmla="*/ 75600 w 3962520"/>
              <a:gd name="textAreaRight" fmla="*/ 3886920 w 3962520"/>
              <a:gd name="textAreaTop" fmla="*/ 75600 h 990720"/>
              <a:gd name="textAreaBottom" fmla="*/ 915120 h 990720"/>
            </a:gdLst>
            <a:ahLst/>
            <a:rect l="textAreaLeft" t="textAreaTop" r="textAreaRight" b="textAreaBottom"/>
            <a:pathLst>
              <a:path w="3962400" h="990600">
                <a:moveTo>
                  <a:pt x="0" y="0"/>
                </a:moveTo>
                <a:lnTo>
                  <a:pt x="3962400" y="0"/>
                </a:lnTo>
                <a:lnTo>
                  <a:pt x="3962400" y="990600"/>
                </a:lnTo>
                <a:lnTo>
                  <a:pt x="0" y="990600"/>
                </a:lnTo>
                <a:close/>
                <a:moveTo>
                  <a:pt x="75890" y="75890"/>
                </a:moveTo>
                <a:lnTo>
                  <a:pt x="75890" y="914710"/>
                </a:lnTo>
                <a:lnTo>
                  <a:pt x="3886510" y="914710"/>
                </a:lnTo>
                <a:lnTo>
                  <a:pt x="3886510" y="758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Frame 11"/>
          <p:cNvSpPr/>
          <p:nvPr/>
        </p:nvSpPr>
        <p:spPr>
          <a:xfrm>
            <a:off x="4724280" y="3962520"/>
            <a:ext cx="4191120" cy="609480"/>
          </a:xfrm>
          <a:custGeom>
            <a:avLst/>
            <a:gdLst>
              <a:gd name="textAreaLeft" fmla="*/ 46440 w 4191120"/>
              <a:gd name="textAreaRight" fmla="*/ 4144680 w 4191120"/>
              <a:gd name="textAreaTop" fmla="*/ 46440 h 609480"/>
              <a:gd name="textAreaBottom" fmla="*/ 563040 h 609480"/>
            </a:gdLst>
            <a:ahLst/>
            <a:rect l="textAreaLeft" t="textAreaTop" r="textAreaRight" b="textAreaBottom"/>
            <a:pathLst>
              <a:path w="4191000" h="609600">
                <a:moveTo>
                  <a:pt x="0" y="0"/>
                </a:moveTo>
                <a:lnTo>
                  <a:pt x="4191000" y="0"/>
                </a:lnTo>
                <a:lnTo>
                  <a:pt x="4191000" y="609600"/>
                </a:lnTo>
                <a:lnTo>
                  <a:pt x="0" y="609600"/>
                </a:lnTo>
                <a:close/>
                <a:moveTo>
                  <a:pt x="46701" y="46701"/>
                </a:moveTo>
                <a:lnTo>
                  <a:pt x="46701" y="562899"/>
                </a:lnTo>
                <a:lnTo>
                  <a:pt x="4144299" y="562899"/>
                </a:lnTo>
                <a:lnTo>
                  <a:pt x="4144299" y="467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8:03:00Z</dcterms:created>
  <dc:creator>pateles</dc:creator>
  <dc:description/>
  <dc:language>en-US</dc:language>
  <cp:lastModifiedBy>ANASIELT</cp:lastModifiedBy>
  <dcterms:modified xsi:type="dcterms:W3CDTF">2012-07-12T17:19:21Z</dcterms:modified>
  <cp:revision>156</cp:revision>
  <dc:subject/>
  <dc:title>Estimates of U.S. Postal Demand Elasticities Derived from a Random-Coefficients Discrete-Choice Normal Model</dc:title>
</cp:coreProperties>
</file>