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1CBC0-27DC-41ED-A897-271A6E42A7B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2D8D1-BDA2-4FB2-A0EB-6A33075E719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8472F4-1153-4B0C-8B13-0B11528340D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18A6-3164-4B79-8988-8CB51F18138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58A048-ECD8-4AF2-8D53-D5700A1E905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CE3A-B6D6-4C36-9346-A49C4ACC735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373D-6046-45A5-8C6E-365C618D9E8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6145-E0DE-4DB4-841E-CD9DDA55BC3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0036-ED41-415D-8558-9370B41A7FA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0C0E-2B3D-46F7-A991-37D253611E3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B982-37E0-494C-B738-DA253B49982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CE5EE44-1BC3-4209-BFFF-811BACEBDFC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53E5-9327-497B-B3F9-1C5CECCA59D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0EB9720-6CF9-451C-859E-41FD3DBBE30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3667E-313B-4A0A-8B8B-0410A8B01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11CE-BE02-412E-90D2-506D53A97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11D56-85B4-4FA2-8D79-CE0ADA29A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018E8-08F2-4D67-A8C5-DEA48199D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F8D4-B1F2-4872-BCDD-D269654DC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DA364-C334-470E-8F94-03F987A5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6A64C-7BB7-4396-89D7-7CAFA7AD0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E293-FF5B-4D99-A7A3-C47D44FB2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31D08-5A84-477A-9C29-452BAB5C1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C82F-CA23-42B2-AF8B-026F4BB9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0D88-D78D-4C4A-86EA-797C7B3E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E86E-00C2-4B04-9C74-DDDE5FC2E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52B4-9A99-4B2F-B40F-BBD5223A7EE0}" type="datetime">
              <a:rPr b="0" lang="en-US" sz="1200" spc="-1" strike="noStrike">
                <a:solidFill>
                  <a:srgbClr val="898989"/>
                </a:solidFill>
                <a:latin typeface="Calibri"/>
              </a:rPr>
              <a:t>07/29/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FDD5-D47F-4C8E-AE76-2E1F33B0244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DBB5-FA5A-44E3-913A-D80F8EA3DD6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1C62-FE75-4920-B509-A081458F919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8EEF-4925-4A42-8391-B6199DD15FB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A90E-E43C-46ED-9FD5-5AC83B346E1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BDD6-A607-4F93-91B9-A5711D332E3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E557-54FB-4936-9879-41E297623CF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C625-4646-46D2-9470-34C7CD0E026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A184-9835-44D3-9C4A-29AC8B4945E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57D4-68F5-4A5F-BC97-6FCF1AA2867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365A-E58D-4DD4-A8F3-F63C95A7674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39AA-C23D-4716-8F9A-4A8E3ED9AAF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47D8-46D9-448A-9C43-9B438EB577B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5175-5621-4DA3-8E38-C65E3F9B845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3059-CCEE-4300-8B0C-458CC380929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5BA1-7CCA-4504-B43C-C56DE41F619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5D65-FA4F-4371-8873-56810FC923F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C641-1C8B-4507-823C-CE6AEE4DF67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D9FA-A45C-43BD-9B9E-33E836F1645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8F31-ECD4-4D7B-A2D6-ECFC9D9F64E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2F4C-4225-449E-801A-B2ED8164A54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F260-8455-4EC0-A43C-9772088A60E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