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C908B5-644D-4F57-9F43-15B8F11617D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A60373-9256-4ABF-85EE-E63BBD98749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3BDEE0-E848-42CB-B7A1-AE2F1439297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C359-A7B7-43E2-BFE8-06127915F49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860526-2926-4736-81D9-DD3058A52D5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D2C4-123B-4758-8681-C60A4A8E750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EE56-4E73-438B-97C7-1A81B1F6215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27ED-7928-4913-9183-E323A5DE2D0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DBFB-1D85-4252-8314-C76B9E99E1A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55CF-9407-4DE5-9536-0137A127628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272B-8A69-47EA-813A-E35F6668BFD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47AAC37-3525-4EC9-8048-BDD79F5345B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FF4F-0C49-401E-9277-EE965D4868E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D3530A5-AFDB-4FC0-9420-667FC13F057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937BB-1818-45FD-B726-AB7A69E8F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4877-6FF9-43BE-95B5-33A864B2D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A4563-5AFC-4CD7-BC5F-05AA21B4D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39592-5894-4D02-A15C-2C1ACC973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37189-A5CD-492F-92C4-416CD7CFD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BCF4F-83E0-435C-A76E-E80F16EF0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94346-AFAF-4923-857E-F41514490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F9DBA-3115-49DA-86FB-ECB4ADCD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67AAC-794D-4521-B272-58257E789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A715A-C970-4E0B-9317-74B9A9C1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7BD69-19BE-482B-9356-3FD8074F9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D49F3-D07E-47DD-AF61-F9C45FCFE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4E5B-A271-41AF-8E9E-A6BFD5A5EAE2}" type="datetime">
              <a:rPr b="0" lang="en-US" sz="1200" spc="-1" strike="noStrike">
                <a:solidFill>
                  <a:srgbClr val="898989"/>
                </a:solidFill>
                <a:latin typeface="Calibri"/>
              </a:rPr>
              <a:t>07/30/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DC56-DCB7-42CB-A262-0510D4BBB9B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2812-2488-41B6-8FBB-0C1A4578A9A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781C-881A-4D81-AE05-C6D8E86C582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3AF0-2A68-4489-97FC-119B5D72A94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423F-04D1-42F5-A9FE-657FBAEC85B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2AC8-8BD8-4FAC-9401-964358D5C9B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6A3E-2BF1-4C2F-9A4C-31EDCEE0605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C129-0489-4999-8211-3F558AEA8FE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F367-E0EA-4956-961E-0AD68181A84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B09C-06AC-4C38-AD84-75CBF015D33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0406-D921-4466-B097-21F59B89F3F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09FA-B4B7-4F8A-A16F-2047B5A4451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4052-51A5-4FB1-B4E3-F0E463E6277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0069-F909-441D-8A07-D29F47A6F51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98CF-A311-4587-8240-B8E86B5E778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E89A-1977-4786-AC9F-DED60DECC57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F24C-0EEE-4FB9-BED4-6E17A0A11C0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81F2-E940-4A38-8132-54F3A725DD8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34EC-8F61-410C-B104-A0C336AD831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B8D6-FF81-4DBE-BD5E-5B5F6345875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426E-95BF-4EF9-853F-D53D2140509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2F11-59CB-4B0C-A633-3C6CFEEA5EB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